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2640" y="685440"/>
            <a:ext cx="45687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C9D124-178E-4515-9E32-0254AF3FFED0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08C91-93F6-4FA2-B804-63F906DEA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EEF15-799B-4F67-B2D5-16C546103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29893-8C96-4D6E-AD69-6EDC6AF04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200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92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200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92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953FD-7129-4225-98D7-F81B22618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59570-46DB-4BEF-8DDA-3BDB2F90E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1D0F1-E2A0-4E65-A3F8-7CE8DB1D2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BD8EE-F837-4AB6-A1FA-520028F68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B02BE-9F04-4CF6-94AD-57D897874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C378E-BEFD-42C0-9BEC-3D3AEDF1A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C664F-0837-408B-A963-CE59687EF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A4A6F-DCDD-45EA-BD5D-0F846C7EA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004B4-449A-4F4B-9955-8074BFC5C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1800" indent="-27180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91840" indent="-2260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28016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7381BE-784D-4C37-9926-6336817CE8D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258920" y="836640"/>
            <a:ext cx="66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NEW MODES OF GATHERING SURVEY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195640" y="2781360"/>
            <a:ext cx="50403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ELLULAR PH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24000" y="189000"/>
            <a:ext cx="8496000" cy="6408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uan Díez Nicolás</dc:creator>
  <dc:description/>
  <dc:language>en-US</dc:language>
  <cp:lastModifiedBy>NickM</cp:lastModifiedBy>
  <cp:revision>0</cp:revision>
  <dc:subject/>
  <dc:title>Sin título de diapositiva</dc:title>
</cp:coreProperties>
</file>